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0FD-000A-4DF5-9C6D-9EA5F6CE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3CF9-5CB0-4917-ADF0-B8CA7B27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168-4504-4B3D-BA53-E3B8BF22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AD1D-55AD-4476-94C2-09351518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5FA-FFD5-48DA-857E-19790539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15C-3052-4610-AC83-B9826B4B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5A5C-5063-4053-9939-32BC85E2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054-2190-43B2-8119-5BB04856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DAA-9481-4E2A-9B42-0F49B12C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387-85F5-45AD-A0CC-E6210A20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DB32-3664-47ED-A92F-99803485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7DE-296B-4BB1-83AC-525C732D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AF8F-9679-422B-8265-DA06E1B3B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5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مَن أحيانا بالموتِ صلب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791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إقبل موتانا في دارِ الخُل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95800" y="0"/>
            <a:ext cx="58482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09480"/>
            <a:ext cx="3200400" cy="9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غيثَ المراح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أسبِغ عليه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خيرَ راحِ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بحرَ الجو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مَن أحيانا بالموتِ صلب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5791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إقبل موتانا في دارِ الخُل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28600"/>
            <a:ext cx="2514600" cy="70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فَلْيَستنيرو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من نورِ وجهِ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وليستريحو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rial"/>
              </a:rPr>
              <a:t>مع مَن أرضَو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945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يا مَن أحيانا بالموتِ صلبا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57913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Arial"/>
              </a:rPr>
              <a:t>إقبل موتانا في دارِ الخُل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11:40:59Z</dcterms:created>
  <dc:creator>HANI SAFI</dc:creator>
  <dc:description/>
  <dc:language>en-US</dc:language>
  <cp:lastModifiedBy>HANI SAFI</cp:lastModifiedBy>
  <dcterms:modified xsi:type="dcterms:W3CDTF">2003-05-19T11:42:17Z</dcterms:modified>
  <cp:revision>1</cp:revision>
  <dc:subject/>
  <dc:title>Slide 1</dc:title>
</cp:coreProperties>
</file>